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621588" cy="7848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BA9E-962D-49CA-ABEC-C0261F75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68580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832040"/>
            <a:ext cx="68580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537080"/>
            <a:ext cx="68580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5D08-B189-4BF6-92F6-4B439DAD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68580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832040"/>
            <a:ext cx="3346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832040"/>
            <a:ext cx="3346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537080"/>
            <a:ext cx="3346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537080"/>
            <a:ext cx="3346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150D-35BF-4AE4-85EA-84433C89D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68580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832040"/>
            <a:ext cx="2207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832040"/>
            <a:ext cx="2207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832040"/>
            <a:ext cx="2207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537080"/>
            <a:ext cx="2207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537080"/>
            <a:ext cx="2207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537080"/>
            <a:ext cx="2207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9CDE-18E9-4983-9009-6EC1E0FE6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68580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832040"/>
            <a:ext cx="6858000" cy="51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6E87-614A-4129-A0BA-0D6D8EFC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68580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832040"/>
            <a:ext cx="6858000" cy="51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5248-9AEA-4C87-BE09-DF6D76CA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68580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832040"/>
            <a:ext cx="3346560" cy="51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832040"/>
            <a:ext cx="3346560" cy="51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F7EE-D01A-4209-99D9-7E0AA393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68580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D103-A5C3-4484-9B7B-DE3F8BF7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14280"/>
            <a:ext cx="6858000" cy="60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E274-66C6-4182-B2E0-AD8472E5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68580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832040"/>
            <a:ext cx="3346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832040"/>
            <a:ext cx="3346560" cy="51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537080"/>
            <a:ext cx="3346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F81E-EF8D-4BCA-B8C0-01882E27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68580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832040"/>
            <a:ext cx="3346560" cy="51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832040"/>
            <a:ext cx="3346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537080"/>
            <a:ext cx="3346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A4B1-4EEA-4FF4-B218-978AD6EE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68580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832040"/>
            <a:ext cx="3346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832040"/>
            <a:ext cx="3346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537080"/>
            <a:ext cx="68580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F891-DD9B-441A-A983-9D39EB37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68580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832040"/>
            <a:ext cx="6858000" cy="51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7146720"/>
            <a:ext cx="177804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7146720"/>
            <a:ext cx="241308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7146720"/>
            <a:ext cx="177804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9120-40BA-4856-A3B4-DCC07297F4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3760" y="527040"/>
            <a:ext cx="3527280" cy="2347560"/>
            <a:chOff x="3803760" y="527040"/>
            <a:chExt cx="3527280" cy="2347560"/>
          </a:xfrm>
        </p:grpSpPr>
        <p:sp>
          <p:nvSpPr>
            <p:cNvPr id="42" name=""/>
            <p:cNvSpPr/>
            <p:nvPr/>
          </p:nvSpPr>
          <p:spPr>
            <a:xfrm>
              <a:off x="3803760" y="527040"/>
              <a:ext cx="33652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0" lang="en-GB" sz="2100" spc="-1" strike="noStrike">
                  <a:solidFill>
                    <a:srgbClr val="000000"/>
                  </a:solidFill>
                  <a:latin typeface="Comic Sans MS"/>
                </a:rPr>
                <a:t>4 cabezas </a:t>
              </a:r>
              <a:r>
                <a:rPr b="0" lang="en-GB" sz="2100" spc="-1" strike="noStrike">
                  <a:solidFill>
                    <a:srgbClr val="ffff00"/>
                  </a:solidFill>
                  <a:latin typeface="Comic Sans MS"/>
                </a:rPr>
                <a:t>amarillas</a:t>
              </a:r>
              <a:r>
                <a:rPr b="0" lang="en-GB" sz="2100" spc="-1" strike="noStrike">
                  <a:solidFill>
                    <a:srgbClr val="ffffff"/>
                  </a:solidFill>
                  <a:latin typeface="Comic Sans MS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308480" y="860400"/>
              <a:ext cx="302256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Comic Sans MS"/>
                </a:rPr>
                <a:t>2 orejas </a:t>
              </a:r>
              <a:r>
                <a:rPr b="0" lang="en-GB" sz="2100" spc="-1" strike="noStrike">
                  <a:solidFill>
                    <a:srgbClr val="ff0000"/>
                  </a:solidFill>
                  <a:latin typeface="Comic Sans MS"/>
                </a:rPr>
                <a:t>rojas</a:t>
              </a:r>
              <a:r>
                <a:rPr b="0" lang="en-GB" sz="21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Comic Sans MS"/>
                </a:rPr>
                <a:t>8 manos  </a:t>
              </a:r>
              <a:r>
                <a:rPr b="0" lang="en-GB" sz="2100" spc="-1" strike="noStrike">
                  <a:solidFill>
                    <a:srgbClr val="00008b"/>
                  </a:solidFill>
                  <a:latin typeface="Comic Sans MS"/>
                </a:rPr>
                <a:t>azules</a:t>
              </a:r>
              <a:r>
                <a:rPr b="0" lang="en-GB" sz="21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Comic Sans MS"/>
                </a:rPr>
                <a:t>2 piernas </a:t>
              </a:r>
              <a:r>
                <a:rPr b="0" lang="en-GB" sz="2100" spc="-1" strike="noStrike">
                  <a:solidFill>
                    <a:srgbClr val="ffff00"/>
                  </a:solidFill>
                  <a:latin typeface="Comic Sans MS"/>
                </a:rPr>
                <a:t>amarillas</a:t>
              </a:r>
              <a:r>
                <a:rPr b="0" lang="en-GB" sz="21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Comic Sans MS"/>
                </a:rPr>
                <a:t>6 brazos negros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Comic Sans MS"/>
                </a:rPr>
                <a:t>2 ojos </a:t>
              </a:r>
              <a:r>
                <a:rPr b="0" lang="en-GB" sz="2100" spc="-1" strike="noStrike">
                  <a:solidFill>
                    <a:srgbClr val="800080"/>
                  </a:solidFill>
                  <a:latin typeface="Comic Sans MS"/>
                </a:rPr>
                <a:t>morados</a:t>
              </a:r>
              <a:r>
                <a:rPr b="0" lang="en-GB" sz="21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Comic Sans MS"/>
                </a:rPr>
                <a:t>2 hombros </a:t>
              </a:r>
              <a:r>
                <a:rPr b="0" lang="en-GB" sz="2100" spc="-1" strike="noStrike">
                  <a:solidFill>
                    <a:srgbClr val="a52a00"/>
                  </a:solidFill>
                  <a:latin typeface="Comic Sans MS"/>
                </a:rPr>
                <a:t>marrónes</a:t>
              </a:r>
              <a:r>
                <a:rPr b="0" lang="en-GB" sz="21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12600" y="174600"/>
            <a:ext cx="4165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i dibujo tiene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uatro 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abezas amarill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os  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rejas roj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cho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nos  az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os  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iernas amarill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eis  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razos neg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os   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ojos mor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os    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ombros marró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07:13:16Z</dcterms:created>
  <dc:creator>Katy Oliver</dc:creator>
  <dc:description/>
  <dc:language>en-US</dc:language>
  <cp:lastModifiedBy>Katy Oliver</cp:lastModifiedBy>
  <dcterms:modified xsi:type="dcterms:W3CDTF">2012-03-02T07:13:16Z</dcterms:modified>
  <cp:revision>1</cp:revision>
  <dc:subject/>
  <dc:title>Slide 1</dc:title>
</cp:coreProperties>
</file>